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375-613D-47AC-AADF-5870EF28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B1F-8063-4E8B-897D-94E7AD9B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07D-DFB0-4284-8FB6-9C465DF9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C3C-2D69-4C16-93A1-7B0ADE8D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75A-A10D-4724-8AD0-39A47328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397-7902-4BB1-944A-74063DF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69A-2747-495D-B455-926AAFCB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B5F-0175-421E-80F2-E556E74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575-7B1F-4E0D-B3E7-155E423B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B8B-E57A-4288-ABC7-B578A40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A15-7017-46F9-B8A7-C0A48625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DCD-63F6-4EA2-A1D4-9AEFA4F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54D8-CAA2-4DC4-9663-5262F573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2.jpeg"/><Relationship Id="rId6" Type="http://schemas.openxmlformats.org/officeDocument/2006/relationships/image" Target="../media/image1.jpeg"/><Relationship Id="rId7" Type="http://schemas.openxmlformats.org/officeDocument/2006/relationships/image" Target="../media/image7.jpeg"/><Relationship Id="rId8" Type="http://schemas.openxmlformats.org/officeDocument/2006/relationships/image" Target="../media/image13.jpeg"/><Relationship Id="rId9" Type="http://schemas.openxmlformats.org/officeDocument/2006/relationships/image" Target="../media/image6.jpeg"/><Relationship Id="rId10" Type="http://schemas.openxmlformats.org/officeDocument/2006/relationships/image" Target="../media/image11.jpeg"/><Relationship Id="rId11" Type="http://schemas.openxmlformats.org/officeDocument/2006/relationships/image" Target="../media/image10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3.jpeg"/><Relationship Id="rId15" Type="http://schemas.openxmlformats.org/officeDocument/2006/relationships/image" Target="../media/image2.jpe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8810000%5B1%5D.wav" TargetMode="External"/><Relationship Id="rId2" Type="http://schemas.microsoft.com/office/2007/relationships/media" Target="file:///tmp/home/.config/libreoffice/4/user/gallery/MSj00748810000%5B1%5D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chnell wie ‘ne Gril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248520" cy="416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leise wie eine Musch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714240"/>
            <a:ext cx="609624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tapfer wie ein Ti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008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cheu wie eine Krab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81120" y="914400"/>
            <a:ext cx="60390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faul wie eine Eidech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-2002" t="13335" r="0" b="0"/>
          <a:stretch/>
        </p:blipFill>
        <p:spPr>
          <a:xfrm>
            <a:off x="2514600" y="380880"/>
            <a:ext cx="3876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fleissig wie eine Bi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493560"/>
            <a:ext cx="64008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7593" t="2345" r="4153" b="27879"/>
          <a:stretch/>
        </p:blipFill>
        <p:spPr>
          <a:xfrm>
            <a:off x="609480" y="-533520"/>
            <a:ext cx="7696440" cy="739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1828800" cy="14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90920" y="123336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-2002" t="13335" r="0" b="0"/>
          <a:stretch/>
        </p:blipFill>
        <p:spPr>
          <a:xfrm>
            <a:off x="4419720" y="0"/>
            <a:ext cx="1312920" cy="1676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23081" t="0" r="12825" b="10476"/>
          <a:stretch/>
        </p:blipFill>
        <p:spPr>
          <a:xfrm>
            <a:off x="914400" y="1981080"/>
            <a:ext cx="1905120" cy="176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rcRect l="12069" t="18114" r="27587" b="12023"/>
          <a:stretch/>
        </p:blipFill>
        <p:spPr>
          <a:xfrm>
            <a:off x="838080" y="0"/>
            <a:ext cx="2057400" cy="158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629400" y="2895480"/>
            <a:ext cx="1600200" cy="239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rcRect l="0" t="0" r="0" b="19089"/>
          <a:stretch/>
        </p:blipFill>
        <p:spPr>
          <a:xfrm>
            <a:off x="5029200" y="1828800"/>
            <a:ext cx="2362320" cy="14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rcRect l="0" t="13875" r="15217" b="26213"/>
          <a:stretch/>
        </p:blipFill>
        <p:spPr>
          <a:xfrm>
            <a:off x="3505320" y="4572000"/>
            <a:ext cx="220968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rcRect l="33136" t="0" r="0" b="591"/>
          <a:stretch/>
        </p:blipFill>
        <p:spPr>
          <a:xfrm>
            <a:off x="3505320" y="2666880"/>
            <a:ext cx="170820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rcRect l="-3873" t="15582" r="0" b="0"/>
          <a:stretch/>
        </p:blipFill>
        <p:spPr>
          <a:xfrm>
            <a:off x="2003400" y="3581280"/>
            <a:ext cx="150192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rcRect l="12087" t="14582" r="35167" b="-421"/>
          <a:stretch/>
        </p:blipFill>
        <p:spPr>
          <a:xfrm>
            <a:off x="3124080" y="0"/>
            <a:ext cx="12416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rcRect l="0" t="13252" r="3772" b="9380"/>
          <a:stretch/>
        </p:blipFill>
        <p:spPr>
          <a:xfrm>
            <a:off x="5715000" y="4724280"/>
            <a:ext cx="2438280" cy="1290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rcRect l="16181" t="3294" r="19124" b="20989"/>
          <a:stretch/>
        </p:blipFill>
        <p:spPr>
          <a:xfrm>
            <a:off x="5526000" y="3352680"/>
            <a:ext cx="874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rcRect l="3750" t="11251" r="33750" b="0"/>
          <a:stretch/>
        </p:blipFill>
        <p:spPr>
          <a:xfrm>
            <a:off x="609480" y="41148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579132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n alles zusammen komm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17524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/>
          <a:stretch/>
        </p:blipFill>
        <p:spPr>
          <a:xfrm>
            <a:off x="36576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tretch/>
        </p:blipFill>
        <p:spPr>
          <a:xfrm>
            <a:off x="4952880" y="-76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9"/>
          <a:stretch/>
        </p:blipFill>
        <p:spPr>
          <a:xfrm>
            <a:off x="18288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0"/>
          <a:stretch/>
        </p:blipFill>
        <p:spPr>
          <a:xfrm>
            <a:off x="12952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65760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2"/>
          <a:stretch/>
        </p:blipFill>
        <p:spPr>
          <a:xfrm>
            <a:off x="26668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3"/>
          <a:stretch/>
        </p:blipFill>
        <p:spPr>
          <a:xfrm>
            <a:off x="43434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4"/>
          <a:stretch/>
        </p:blipFill>
        <p:spPr>
          <a:xfrm>
            <a:off x="44956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5"/>
          <a:stretch/>
        </p:blipFill>
        <p:spPr>
          <a:xfrm>
            <a:off x="6705720" y="380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6"/>
          <a:stretch/>
        </p:blipFill>
        <p:spPr>
          <a:xfrm>
            <a:off x="609588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7"/>
          <a:stretch/>
        </p:blipFill>
        <p:spPr>
          <a:xfrm>
            <a:off x="59436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8"/>
          <a:stretch/>
        </p:blipFill>
        <p:spPr>
          <a:xfrm>
            <a:off x="7467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9"/>
          <a:stretch/>
        </p:blipFill>
        <p:spPr>
          <a:xfrm>
            <a:off x="70102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50830" r="-726" b="0"/>
          <a:stretch/>
        </p:blipFill>
        <p:spPr>
          <a:xfrm>
            <a:off x="1600200" y="762120"/>
            <a:ext cx="6248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62120" y="56386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bin i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4100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langsam wie ‘ne Schnec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553080" cy="43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klein wie ‘ne Ame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1860" b="12726"/>
          <a:stretch/>
        </p:blipFill>
        <p:spPr>
          <a:xfrm>
            <a:off x="2209680" y="762120"/>
            <a:ext cx="5029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gross wie ein W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148" t="3227" r="3226" b="6972"/>
          <a:stretch/>
        </p:blipFill>
        <p:spPr>
          <a:xfrm>
            <a:off x="1523880" y="609480"/>
            <a:ext cx="64008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nett wie ein H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736560"/>
            <a:ext cx="6553080" cy="444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fies wie ein Haifis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571680"/>
            <a:ext cx="6629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54100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chwach wie ein Kätsc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3327480" cy="498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tark wie ein Och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267600" cy="41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laut wie ein Lö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-3873" t="15582" r="0" b="0"/>
          <a:stretch/>
        </p:blipFill>
        <p:spPr>
          <a:xfrm>
            <a:off x="2666880" y="380880"/>
            <a:ext cx="40658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1:50:12Z</dcterms:created>
  <dc:creator>Patrick Hart</dc:creator>
  <dc:description/>
  <dc:language>en-US</dc:language>
  <cp:lastModifiedBy>udsd</cp:lastModifiedBy>
  <dcterms:modified xsi:type="dcterms:W3CDTF">2010-10-01T18:09:13Z</dcterms:modified>
  <cp:revision>4</cp:revision>
  <dc:subject/>
  <dc:title>Slide 1</dc:title>
</cp:coreProperties>
</file>